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487-9771-47DB-9D91-FF7FB5AC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D7F-6277-47B7-918B-7DD0B67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98FFF-4F5A-4ABE-95D2-8092CC87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4F096-9926-443A-9D96-6D59280A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DE770-4A80-4426-8C79-219B9B5C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6CC5A-EE50-45BD-A71D-610A179C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DCEA5-D715-4C23-A47E-C53C2643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29AEF-4092-48C8-B276-089E72CB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E785E-0097-4789-B641-DD7B6E5B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1DA94-672B-4814-A718-C1237DAA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99F38-B4FA-4117-AC30-CC9C6466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269A4-D89C-40E0-A2D0-7A38952C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9EC-B8A8-45D5-9A2A-52730BA7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DF10C-13B2-43E4-8B93-CBCBE6D2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4D81A-A958-49AC-AEBC-E0B263F8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59458-90E8-4221-94F9-A1E2F53C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1725C-A815-4181-97BA-99233722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0A9D2-CA80-4BDB-8C24-089B933F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93E8E-C1E7-407A-95E5-F9611E8F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CD73C-9EB5-4A79-B304-64E3A59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D9F61-DBCF-4898-BA00-380FC931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58068-2D5C-47DF-845D-FD98F33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E88AF-C065-41EF-B1A0-ADDB7A2D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DFB-134D-42F4-A853-7F0ADE7F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95174-8141-483A-A45A-71F39D1A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69965-56C0-4F90-A80B-921E4BE0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8AC1A-6E9C-426B-A27E-A513B28C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98A4D-1E28-4D0B-888E-9A8CB3D2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38C5-EB47-4EB2-A6A3-755E6DA0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39579-6F8F-4B49-837F-C97D7B0D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75E01-40C1-4D3E-9BA6-29685EE9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AB2EE-1A11-49E7-9AC7-8C4A5014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D144A-A852-4407-A98F-D5AD68AC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2E368-6B6F-4EE7-A2DD-696731A4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2C4C-69F1-49D2-A2FE-A39C213A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B6776-429C-4CD9-8A73-7C3C0367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EE475-2809-4B9B-B2FF-C7268069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1F0D3-D86A-4454-B4F0-547F0E3B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AFB71-DEAE-4FFE-9A18-F39466EE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2F18F-D7A6-455D-8387-C4FDF709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73D24-B6E2-4392-BECF-C0F8ADDA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A6B2A-9540-43F6-9B6C-3E92926E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4EF26-FE7F-4AFE-A7A9-7ECE1B02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E5F4E-B968-4527-A056-BC169137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32081-4746-4B78-83E0-2CD4BDA0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2807-39FD-46B8-A2BD-130F99D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39AB7-271F-44B8-857C-3383434E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04DE9-4A58-4F3A-B2F3-1A3E491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5E402-E86A-4575-A900-FE398428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CB26C-207B-4B04-8E65-EA1629D9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63FBE-E059-43D4-A144-14A14C0A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9E9DE-0E4D-4A01-90A6-3B582640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742CF-EA4D-4F73-83C6-874540AD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20EC3-577E-4A6C-80FD-444E2101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1FF0E-D836-4976-98EA-C7A50EBC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CF4D0-04C9-4386-967B-91ECCC26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9CCD-8D7A-44B3-91C0-CF0A23D9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8BD06-2FEC-4EF7-9D5F-0E20FB4A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DC65F-C27A-4259-B012-A43BC1EF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EECC1-E7EF-492D-B0BB-FB194858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D4A05-70CC-4364-89F2-CDA251C5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415A3-95DD-4381-B3B5-3BA5EB85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9D6FE-24B0-47FA-A88C-63FAE8BD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2E463-3433-4048-AC8D-9A973594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F71E7-AA71-45DF-9E2E-301561A9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28940-BB09-4EF6-A9B6-E211E210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1F974-AF30-4B4C-9255-FA4850CE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A65E-4A49-414A-AE08-46C929B9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70859-5BFE-4EA5-9598-6D0D8B1E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ABB70-70C5-430A-B2A0-16C7A2B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2650C-6C04-4065-9E14-40DB3ACF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D75FC-3731-4337-8C43-0396CD0A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CB731-92EA-4031-9861-526FBEE2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72860-43EF-4868-A0A9-35216C7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FA63A-2F26-4734-8E5D-3B5BC90A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1AF1F-13F1-4834-A902-FA6D3DC8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7C8BB-B849-490D-9164-EE807F62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2C667-2078-4A16-8D16-CC2523FC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59C4-E58A-4380-9383-6AAFC763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5F27D-F308-4B3F-BD64-FCF32C2C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D5F10-D6CE-4B4D-AEF0-46FD82E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4A6D8-0C89-4A2B-87FA-E359A2F9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00B7F-D3C4-4E44-B864-28CC2BCF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45B1D-C76A-4878-9BDB-0470E6C9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3EC3E-0B5C-4C48-B35D-D8018672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337EF-0F02-4BD5-83EC-C8AF558C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C2DB9-B81C-4F15-BA21-2D9C03E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F5822-B12E-4F6A-95A4-3D93A9B3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B666A-8F74-41FC-A55C-A47DCCBC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4422-883C-492B-A92D-1BE5823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40A5D-8FCC-4184-9D2C-5064FD2E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A1C33-776F-4652-82EA-E44DFFB1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A7873-A0E7-4CBC-B6FB-607EF41F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7262C-23F9-4BBD-B878-36D7834D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5407C-06DD-44E2-90A0-17EFFB5E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DE1DC-2524-43BD-8DCE-2830E010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68907-A10F-491B-A17B-5B5E9020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8144E-E632-4F01-A8C2-081AF27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A421B-ACF3-447A-926C-9137C6C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24781-7F5A-471E-9DC2-6673666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BA6A-0087-4B68-BA8B-9897E57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7C576-C0EE-4AF3-A769-53D06F6D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7DFBC-7150-4709-BDE8-014B8C3F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9B13A-2BBB-4491-85D6-3942D5C1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D7A46-650D-48D8-979C-187CFCB2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2EF4F-96E2-47AB-AABA-6E42748F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0D5E4-5ED4-41E1-B507-D1DA7392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ACB01-4DA4-4EC8-9BB9-4A1997D0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CF1B4-2F14-4AE4-87CC-A418104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9ACC6-1D38-41F3-9184-FF0539B2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242F5-9E88-4F95-8D91-3F17AD47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78F-9673-45F8-9FBE-A6011F06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6542-0B5E-49EC-BC90-D18A7A0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CAC54-85A7-4AAC-9657-DE787760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A018A-7451-4ED4-B385-4759AEA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EFC26-3DCE-49DB-976D-271488EB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B3B67-6067-4196-A499-93F10200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24BCC-3055-4458-82C3-239BE48A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D425E-F484-451D-9335-2D7707EE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3FA49-5116-4413-B9B9-18AA4FB2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3663F7-5A57-4A62-AECE-10373CC9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9E4EA7-835E-45BC-AF24-166C7E1D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9114A-F2A8-47E8-9B22-7EA3EA75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EE19-1C3E-4839-9BD2-D427FAB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7939F8-889A-4997-B862-6F421260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8672A9-D9FE-4F3A-B76F-CEA809BF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53BE5-3C6B-4D58-B6E3-F12CA2A9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1EDBA-B446-4966-B7A5-BFC60B9B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B3288-55E6-4C6A-AB2A-2AB1629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1FFC7-D6E6-4726-A628-D5BC3ACB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C5C99-DF22-437E-BA31-9A3DC91F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0F85D-7CAC-4E7B-B722-E85E036E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E017F9-1A99-4E6A-8E5F-374B6152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8BC67-8C82-42E0-ADC8-00D4A0E0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5366-DA55-4ACE-92E4-9B5FB50A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D9AD25-A587-4C3E-92FB-8199C837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3E7E7-FDCB-4463-B6A2-860DE4C7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C6815-5AEB-4977-A11A-25EA206E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C610C-F531-40D7-8B9D-02B2996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06BAE-5D71-463A-9900-427261C3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F65960-4109-42D4-85BF-AEFFBCBF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189A2D-413D-4BD3-B849-0B2BDC05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7DB01-8AC5-4DC8-A133-9E749A4C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30CCB-3777-482F-B5D1-F3186204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BE7AB-57FA-4963-8457-A81D2B7A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FB25-FCD5-439B-9420-FD848B26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1D012-982E-45A7-B157-D8F97A64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832A7-E600-496D-8067-82EBD3FF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F92191-AF67-4594-8D2A-B75DAF00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8BDCB-3E88-4B99-AE0B-2F137CCA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3BD138-59B6-488A-952F-DA8912DE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B8BA9-A15B-4E39-B608-92826A5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BADA99-7AB9-49B4-8F93-5F9D392E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3ADCC1-13F1-471C-A8F0-7E6B0297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DFEC6-C97E-4E10-AB5C-E7C7E8DE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90B73-807E-47A5-A077-B1BA7CD1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CA57-D5AB-4041-A41C-F3683D74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2F9F70-E4B3-48E5-8F9A-9E5FA289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AB6C0-14B9-4ED3-AE01-8FD99A83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89A4E-764B-4BB1-8DA1-A0615893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44AF42-31D9-417B-ACFD-835E3733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760B7-338F-4D60-8B9F-D89E7EF7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12587-6F06-479D-8A1E-09FCBC5C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1BED7C-8CE4-45AE-944C-C243E29C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0D437-29D4-48D0-AD4A-4C08864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9F621A-C2F7-4675-A1B2-20287371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17A523-D4D9-4C8C-91AF-DEE8484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2331-1634-4301-B785-84864384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B1960-7E5B-4BAC-B84A-AC88BAEC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5E6F5-C682-4683-8283-2D9460D9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034D1-42E5-4234-8666-CCA44CDC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D243-667F-4867-8CE3-0B0A27D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BE2A-9D14-4FBE-91B5-3C3D2B72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A448-153F-4356-A183-29008379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72B6-A79F-483D-BB1D-D6D028B0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AEF-B646-40ED-BA67-9B64BB9A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0EA8-D131-4577-8C06-235E15B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53E2-2120-4965-B5BB-1A745F8B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A1478-88D0-4BB8-8103-C06BD4DF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C36A-20A2-4A79-8106-EFF848AD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2732-8FC6-454A-A297-3E41E8BD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29E8-4CCD-4ACE-BDEF-EB76BC9A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CFDF-A975-4D5D-BA3F-421D86DF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A7E7-EE0D-4B6E-B836-F09C4486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5A264-4A13-4FEC-8691-428B467E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F405-CCDF-4BA7-B725-11067F4D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F49-6D9E-4CF8-84B2-43FFCBB6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6F56-D3AC-4ADD-A305-0000CC0F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27A22-BBB2-447B-8307-2DBA11FD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008E-D108-4080-BFEF-39953DD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ED9F1-AC8D-4DD3-AE8F-1EFDC45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8649-3307-4C0C-A55D-8FD14D8D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A197C-006E-4C28-A9B1-0B8B3BD1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CA1E-7F52-43F6-A6BD-E470F4AC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B48F-FC4F-494F-9A83-9165C9A1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684F-4C62-4080-BBFE-B90F5638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E7EA-06E7-4E78-9B7C-112BA12A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9D7-B7AE-42EB-9823-50267693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07C3-CB0D-43FC-ADD7-D6A6F505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9A165-8E51-4C87-B025-E08138ED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B8804-AD50-40B7-9B8A-3614522E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B3E2-33A1-4539-B6D2-A6F3FF0D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2E886-D090-4524-9436-4ED704E0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53456-C943-408B-AE3C-62EDFCB7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4A1BD-A00A-458F-B50F-66B8531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71B80-A18D-4763-B4EA-C2BBF699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37DBA-CFA1-4102-AE84-BE27ACD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C0CD-6093-482F-A672-F7CAFB93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D55-A16C-4F45-A10B-299272DC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EB1D-BF67-4816-B8BA-7335C26A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476C7-C12E-4500-B12E-87B783DB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70C29-A9B1-477C-92A8-D4E72C6A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144DF-CE83-4DA7-A8B8-FEE6F6E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4BC85-452E-4F54-BA16-1D42114E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E2706-C4D7-4601-861B-846D00E6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FBAE-667C-441A-9AB7-17094275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E17B-4F94-463F-B728-9CA00D5A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1442C-CEDA-41AC-9E22-801A76F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2A5C3-5A4C-483E-AE7D-CE5ADF9F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63C-16DD-4EF9-91C2-CD8B6190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48E6-07E2-4BEB-9DAC-82C4DDEA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51B8-D2CB-49AA-BF79-E3D44CE8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599FC-024D-468E-BCBA-960A4D22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CA9ED-FC09-4EA7-BE81-D7D0CCB6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418B1-AB13-4B70-ACB7-1B6CE653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4E0E-9777-4F10-9FD4-AC224D27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28B8-C528-40D2-83EE-0B0DB875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326F1-42AF-4E03-B454-1587DF46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1D281-B1BE-4891-8E95-1B0ED160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B0CCB-9460-4C38-9ED7-D6E356B4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778-59D6-4675-81BD-CD73AFF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49F7D-2126-4F83-9125-B5C248C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9E7A9-7BB8-4180-A1EE-DB21957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435CC-AF41-48BD-8182-3B870718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72B35-0FA7-473F-8B4D-21390CFC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EDB4-ACB9-48DD-9D7A-CFC54DDB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8E1D3-738A-4D23-B673-7BF00DD2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796E4-E487-4C2C-8A2F-3E49239B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7114E-F7C8-4711-87C1-D9C783DE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C1B09-7CCB-4229-AC4E-A908BA2B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0D006-9E7F-4E7E-878A-D2122BF5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D45-F833-4F07-9112-E81BA50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9CF8-E078-429A-A57B-E3251628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6DD25-98F6-446D-8948-0591550A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CF07F-8658-4332-A7E1-E7E8B9AB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8BB7B-53C0-4B62-870F-4A2905D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42607-E2B4-483B-BDFC-9BE0B565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2AB32-75E1-479F-B1F1-FC40FB69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B37DC-7439-4D3A-AD10-9DF4A3BC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720B5-7725-414B-B0C5-132BFFEB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11835-1D41-4B3A-854B-60B6E296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34064-367C-47E4-8CE8-13E2223E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E4AD-AA39-4116-9789-AF7D88C47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C02F-DCAB-4432-8D9B-85729C3A54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A2A1-0EBF-41D0-BD76-C70FF51838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D32F-3B1E-41CF-A6BF-5016B81BA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6D60-CFD6-4F3B-BD24-F196678446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C0AC-D79C-4434-B65A-DE042B0AD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24E9-AD77-4252-BD6D-E40F8F15F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10F9-86A9-41CC-9D22-2921197FF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1F2B-D821-4C93-8CA4-29B8DE097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C45E-E48B-4D15-A3DE-E2F5C00154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46C9-6CC1-4F01-8B88-C2B2C1A220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5D3C-3839-40E3-AAE5-33D5671163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AFFB-9E2C-4008-A68F-B32FDF6C62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7D23-4B6D-4E3F-8E92-50C2D77276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9B83-B781-44E1-BA40-80C46061FF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77C8-64DD-4C69-A3AB-3B79F676EE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C65C-9980-4F44-B9AE-C3A75F385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8E1-3594-43F2-8B03-AE5FB180C5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2500-2054-4D35-9982-0920BA556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739-0D97-4A17-A76D-E8A1B9C41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5331-970C-4E22-9106-2C148523A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E4D6-53F5-472F-9AA5-545347CAA3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31F0-FD53-4631-A5CA-9938E7D373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A7D-0076-4E04-ADE8-3B813620BF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0EBC-1D6F-43E8-908C-6130BA4DB8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8789-CA6A-4BBC-B46A-78031A2CB3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779E-F7AD-40B3-8ED4-B4DD8AB869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3A97-0EC4-4A0A-A8DF-5C5134C36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3D06-63FE-4FB6-BF82-ED27D2E78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F6B9-0DFA-4A97-AECF-EFBC9D442A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2F4B-FC56-46CB-8541-1CFF74FCE9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FDCD-C773-4DBB-AD8C-153F10280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2BA3-3FEE-423F-9066-03D04F797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75E-2B92-4A6C-B769-F0BE159847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9E0D-CC9D-41F2-87E3-3FB2C7877A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0740-2A69-4529-A030-124D44041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2EF9-197E-4631-9108-EA1450E140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EC00-99A5-45F5-B837-545F2403FF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26F8-CE49-4C40-A9FE-17B380373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838C-4330-4F63-9B6D-3A7F1D647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785960" y="3357720"/>
            <a:ext cx="6113520" cy="70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62000" y="1200240"/>
            <a:ext cx="8820000" cy="5086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124000" y="2409840"/>
            <a:ext cx="201636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6238800" y="2414520"/>
            <a:ext cx="201636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692360" y="2795760"/>
            <a:ext cx="2016000" cy="293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227640" y="2795760"/>
            <a:ext cx="2016360" cy="293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1908000" y="3186000"/>
            <a:ext cx="201636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6012000" y="3186000"/>
            <a:ext cx="2016000" cy="293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1630440" y="3578400"/>
            <a:ext cx="2016000" cy="293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6588000" y="3594240"/>
            <a:ext cx="2016360" cy="293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1692360" y="3968640"/>
            <a:ext cx="2016000" cy="293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1979640" y="513720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12"/>
          <a:stretch/>
        </p:blipFill>
        <p:spPr>
          <a:xfrm>
            <a:off x="4643280" y="513720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13"/>
          <a:stretch/>
        </p:blipFill>
        <p:spPr>
          <a:xfrm>
            <a:off x="7802640" y="513720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14"/>
          <a:stretch/>
        </p:blipFill>
        <p:spPr>
          <a:xfrm>
            <a:off x="1866960" y="55213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15"/>
          <a:stretch/>
        </p:blipFill>
        <p:spPr>
          <a:xfrm>
            <a:off x="4530600" y="55213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16"/>
          <a:stretch/>
        </p:blipFill>
        <p:spPr>
          <a:xfrm>
            <a:off x="7093080" y="55213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17"/>
          <a:stretch/>
        </p:blipFill>
        <p:spPr>
          <a:xfrm>
            <a:off x="1846440" y="5913360"/>
            <a:ext cx="122364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18"/>
          <a:stretch/>
        </p:blipFill>
        <p:spPr>
          <a:xfrm>
            <a:off x="4510080" y="591336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19"/>
          <a:stretch/>
        </p:blipFill>
        <p:spPr>
          <a:xfrm>
            <a:off x="7380360" y="5913360"/>
            <a:ext cx="1224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9:26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